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ct" ContentType="image/x-pict"/>
  <Override PartName="/ppt/media/image21.jpeg" ContentType="image/jpeg"/>
  <Override PartName="/ppt/media/image5.jpeg" ContentType="image/jpeg"/>
  <Override PartName="/ppt/media/image23.pct" ContentType="image/x-pict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30.png" ContentType="image/png"/>
  <Override PartName="/ppt/media/image11.png" ContentType="image/png"/>
  <Override PartName="/ppt/media/image9.pct" ContentType="image/x-pict"/>
  <Override PartName="/ppt/media/image4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image13.pct" ContentType="image/x-pict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5.png" ContentType="image/png"/>
  <Override PartName="/ppt/media/image22.pct" ContentType="image/x-pict"/>
  <Override PartName="/ppt/media/image24.pct" ContentType="image/x-pict"/>
  <Override PartName="/ppt/media/image27.pct" ContentType="image/x-pict"/>
  <Override PartName="/ppt/media/image28.pct" ContentType="image/x-pict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0579-B8C7-4FBF-BD9D-3D5896A06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2426-A402-4CD4-9C15-6DADF635E23B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2E6E-8598-480E-B0C1-533194F003C2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38C5-74CC-4A17-880F-9F8A6F0251AA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your freedoms under the 1st amend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F5C1-DB09-440E-A514-BEC32F5BA81F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4722-8908-4A8B-B8A1-4CC49D989547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338E-95B8-4109-A006-F2FF12124BCE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E8D8-E54A-4A09-A227-125E2DE9BA8B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8EF6-C72B-4376-BA94-19905DB29780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F31F-DF21-496E-9E2F-5010981304BA}" type="slidenum">
              <a:rPr b="0" lang="en-US" sz="1200" spc="-1" strike="noStrike">
                <a:solidFill>
                  <a:srgbClr val="ff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following pi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D9E-9E82-4DFB-A11C-E28C6789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3E5-D4A1-4646-A6FB-4FCA9E3E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948-F24E-4AEA-8A9B-5CD3724C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A59-A9A4-47D7-B4CC-931B7737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DACD-F305-47E7-B8E8-F8885D95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3D96-E315-45F7-AED7-E1E2319D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EE03-3A51-415F-8369-C3706154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862F-597E-4EA0-B3B7-1F9A6871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05FA-F3DF-4AC5-839A-E70AAE0E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FF61-3E37-42EA-901D-FBED857A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6768-9484-49F2-9A8F-BF7EFE17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578-D05F-4D6E-ADBE-BCE23466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009F-C041-46B4-BB14-079A0366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2A66-4CBA-457D-9D1D-5B58B2EE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816F-60C6-473A-958F-A07A5D4B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31E6-2546-4411-9153-A544E0E7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E482-33F5-432C-905B-36D0C162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A6A75-1C2F-4C83-A354-B0B747CE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3507-73A9-4B3E-B037-FB8CAA34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3111D-8591-4377-9598-5747040F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845A7-8CCB-44A3-9D36-98BBD910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330E0-6C4C-4EEB-A873-01B1C39C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A30-CFDE-4E11-AA96-AE102960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4519-84D0-4D8A-846C-CB535C13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008A2-FD48-4510-825D-68581689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A6E7-7FB5-4517-942D-40A1B48F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FDED3-35AB-46A3-9EDA-5FE683A9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F8484-B467-4105-9826-8AB81721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1D426-5ECE-4764-8668-9B0BC965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4A9C6-DC5E-45C2-8AF7-44ADBDD0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FCB25-578B-4BA0-B82A-CE0D7FA8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F148F-FBF0-4DA4-B6B4-2951C3C0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29EE1-BEA7-45CF-901C-3376079F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04A-3634-41D8-ACB7-414C3503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845AF-A080-424D-8B00-5907D26D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BF4B7-90D0-4BD3-B35E-E2D1F969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A8FFD-4F56-46A5-9B70-FDDFADF1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852F2-661E-4B52-A17F-CDB9C9A3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13D5-ECEE-47B6-8990-AC51AD8B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4654F-9748-42B6-9025-7ADA6F22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45EA-1246-4CB8-9276-86425455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33AD0-8576-4492-A9A6-A0B25AB9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717D8-D786-44CB-BA55-1BB2BDA1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81027-7F72-4909-8C4B-B677DB0E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D6B-E208-4C4F-850C-EACC27E5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FAA43-6B36-47AA-BDC5-3F66CC71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19D8-48B0-43D1-BA36-F3AB58E9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7B5C7-ABFB-46EF-B5C3-062CD371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1552A-73C6-4FD1-A4F2-D150EB66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ED143-7D5A-428A-9342-B9FFA631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77E94-D876-4FB3-AD32-DC949862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B2AF8-6FA9-49BC-A67C-C26A19EF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D466F-B163-4925-8D94-A64F66A5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D2535-DC7E-4D66-BC04-79E068C4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FD7C0-EA8C-482A-BBDC-32DC99C9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EB5-516D-4D65-8044-B04582C9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74263-A365-439D-AB82-CA658DA3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11D64-2646-4564-B845-674D11CB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D5318-D96D-403A-9C3B-E6ECBFF9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CFC21-BC20-4E41-9FD6-78436992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76BF6-183A-43C3-978F-3BCC2D78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D2347-A248-4D32-A6E8-EAD26F35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DBB8F-05F2-4F9D-8C16-C4991861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3B758-9CA4-405D-8C26-D87A2D35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92153-03E0-4AE0-9B8C-CC3B160B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B0515-FA17-4F0C-9413-8D052EF6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3A65-219E-43E2-9BE7-EF1D0040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63DD3-B4A2-4032-B3D2-E91B95F0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9F010-7B7A-46EB-8223-054E8657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37D5F-A41E-4717-9C2B-F44CC4DB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DCB48-7525-4B23-A062-FA400E40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A34D0-A340-4DF6-B7E2-F7FA60D2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FF278-892E-4048-9050-B573F035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DA86B-493E-4A7B-B4AE-554826A9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C7E69-D2C9-4B7E-A43F-552F750A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2BDAB-79B1-4B5C-B899-6C26DECE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B896C-E37C-4447-8A2B-0099A126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138-C55E-46D9-B1E3-DB165D18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C9B2A-1DDD-4D7D-BD82-FD020F6D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ED4ED-4F7C-4D49-BE6E-664B7D0E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3522C-CFDD-499A-85F5-60BBF917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0937C-13FB-49F3-AEAC-5C65AD51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9F27B-3C19-43C0-B9F9-1E767423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20E-07E4-4A4C-A41E-F207E5C8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E5ED-8B81-42D2-A5E7-B2F9BF0F596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69DD-B2F9-40BF-80BF-87BA7D3AC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C08A-CD4F-4FCD-9F6A-1AE5FF5D8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A9E6-21CB-46F2-917D-99A21D8B108A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0163-0B4C-463C-8517-AF19AF39A5E0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A828-0FD2-4B2E-9806-1DE3C3E06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F238-16AE-4B29-95C7-0878A198EBDB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image" Target="../media/image24.pct"/><Relationship Id="rId5" Type="http://schemas.openxmlformats.org/officeDocument/2006/relationships/image" Target="../media/image25.png"/><Relationship Id="rId6" Type="http://schemas.openxmlformats.org/officeDocument/2006/relationships/image" Target="../media/image26.pct"/><Relationship Id="rId7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ct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Marker Felt"/>
              </a:rPr>
              <a:t>US Civics and Governance</a:t>
            </a:r>
            <a:endParaRPr b="0" lang="en-US" sz="9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That’s Right!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Freedom to Assemble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3352680" y="39625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merican Typewriter"/>
              </a:rPr>
              <a:t>What do each of these pictures demonstrate?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028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68360" cy="234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30" descr=""/>
          <p:cNvPicPr/>
          <p:nvPr/>
        </p:nvPicPr>
        <p:blipFill>
          <a:blip r:embed="rId3"/>
          <a:stretch/>
        </p:blipFill>
        <p:spPr>
          <a:xfrm>
            <a:off x="6400800" y="457200"/>
            <a:ext cx="1533600" cy="1676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32" descr=""/>
          <p:cNvPicPr/>
          <p:nvPr/>
        </p:nvPicPr>
        <p:blipFill>
          <a:blip r:embed="rId4"/>
          <a:stretch/>
        </p:blipFill>
        <p:spPr>
          <a:xfrm>
            <a:off x="3505320" y="1676520"/>
            <a:ext cx="2244600" cy="2741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33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173340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34" descr=""/>
          <p:cNvPicPr/>
          <p:nvPr/>
        </p:nvPicPr>
        <p:blipFill>
          <a:blip r:embed="rId6"/>
          <a:stretch/>
        </p:blipFill>
        <p:spPr>
          <a:xfrm>
            <a:off x="304920" y="4495680"/>
            <a:ext cx="23065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7"/>
          <p:cNvSpPr/>
          <p:nvPr/>
        </p:nvSpPr>
        <p:spPr>
          <a:xfrm>
            <a:off x="762120" y="99072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American Typewriter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American Typewriter"/>
              </a:rPr>
              <a:t>Freedom of the Press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29" name="Picture 8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914400" y="152388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ulder"/>
              </a:rPr>
              <a:t>What do each of these pictures demonstrate?</a:t>
            </a:r>
            <a:endParaRPr b="0" lang="en-US" sz="60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3560" cy="34704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2286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Check yes or no</a:t>
            </a: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3" name="Picture 6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156040" cy="17524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3429000" y="1143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Sign here to agree</a:t>
            </a: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5" name="Picture 8" descr="Picture 2"/>
          <p:cNvPicPr/>
          <p:nvPr/>
        </p:nvPicPr>
        <p:blipFill>
          <a:blip r:embed="rId3"/>
          <a:stretch/>
        </p:blipFill>
        <p:spPr>
          <a:xfrm>
            <a:off x="3505320" y="2590920"/>
            <a:ext cx="367668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762120" y="99072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ulder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ulder"/>
              </a:rPr>
              <a:t>Freedom to Petition</a:t>
            </a:r>
            <a:endParaRPr b="0" lang="en-US" sz="4800" spc="-1" strike="noStrike">
              <a:solidFill>
                <a:srgbClr val="ff8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 rot="16200000">
            <a:off x="1143000" y="-1143000"/>
            <a:ext cx="6858000" cy="9144000"/>
          </a:xfrm>
          <a:prstGeom prst="rect">
            <a:avLst/>
          </a:prstGeom>
          <a:ln w="0">
            <a:noFill/>
          </a:ln>
        </p:spPr>
      </p:pic>
      <p:cxnSp>
        <p:nvCxnSpPr>
          <p:cNvPr id="339" name="AutoShape 13"/>
          <p:cNvCxnSpPr/>
          <p:nvPr/>
        </p:nvCxnSpPr>
        <p:spPr>
          <a:xfrm>
            <a:off x="4495320" y="1257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AutoShape 14"/>
          <p:cNvCxnSpPr/>
          <p:nvPr/>
        </p:nvCxnSpPr>
        <p:spPr>
          <a:xfrm>
            <a:off x="4495320" y="1257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1" name="Text Box 16"/>
          <p:cNvSpPr/>
          <p:nvPr/>
        </p:nvSpPr>
        <p:spPr>
          <a:xfrm>
            <a:off x="1828800" y="3808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R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eligion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1752480" y="14479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A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ssemble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1752480" y="25146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P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etition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371600" y="3581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P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ress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1600200" y="4616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Impact"/>
              </a:rPr>
              <a:t>S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peech</a:t>
            </a:r>
            <a:endParaRPr b="0" lang="en-US" sz="66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5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778880" cy="1152720"/>
          </a:xfrm>
          <a:prstGeom prst="rect">
            <a:avLst/>
          </a:prstGeom>
          <a:ln w="0">
            <a:noFill/>
          </a:ln>
        </p:spPr>
      </p:pic>
      <p:pic>
        <p:nvPicPr>
          <p:cNvPr id="347" name="Subtitle 6" descr=""/>
          <p:cNvPicPr/>
          <p:nvPr/>
        </p:nvPicPr>
        <p:blipFill>
          <a:blip r:embed="rId2"/>
          <a:stretch/>
        </p:blipFill>
        <p:spPr>
          <a:xfrm>
            <a:off x="1365120" y="3730680"/>
            <a:ext cx="64137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4724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What 1</a:t>
            </a:r>
            <a:r>
              <a:rPr b="0" lang="en-US" sz="6000" spc="-1" strike="noStrike" baseline="30000">
                <a:solidFill>
                  <a:srgbClr val="000000"/>
                </a:solidFill>
                <a:latin typeface="Marker Felt"/>
              </a:rPr>
              <a:t>st</a:t>
            </a:r>
            <a:r>
              <a:rPr b="0" lang="en-US" sz="6000" spc="-1" strike="noStrike">
                <a:solidFill>
                  <a:srgbClr val="000000"/>
                </a:solidFill>
                <a:latin typeface="Marker Felt"/>
              </a:rPr>
              <a:t> amendment rights are depicted in each of these pictures?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793880" cy="2211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Picture 1"/>
          <p:cNvPicPr/>
          <p:nvPr/>
        </p:nvPicPr>
        <p:blipFill>
          <a:blip r:embed="rId3"/>
          <a:stretch/>
        </p:blipFill>
        <p:spPr>
          <a:xfrm>
            <a:off x="380880" y="3886200"/>
            <a:ext cx="4103640" cy="2733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Picture 2"/>
          <p:cNvPicPr/>
          <p:nvPr/>
        </p:nvPicPr>
        <p:blipFill>
          <a:blip r:embed="rId4"/>
          <a:stretch/>
        </p:blipFill>
        <p:spPr>
          <a:xfrm>
            <a:off x="6019920" y="533520"/>
            <a:ext cx="2361960" cy="2209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Picture 3"/>
          <p:cNvPicPr/>
          <p:nvPr/>
        </p:nvPicPr>
        <p:blipFill>
          <a:blip r:embed="rId5"/>
          <a:stretch/>
        </p:blipFill>
        <p:spPr>
          <a:xfrm>
            <a:off x="6324480" y="41148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7315200" cy="2133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That’s Right!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Freedom of Speech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09480" y="2361960"/>
            <a:ext cx="7315200" cy="144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What do each of these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pictures demonstrate?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921040" cy="2336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2095560" cy="2210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"/>
          <p:cNvPicPr/>
          <p:nvPr/>
        </p:nvPicPr>
        <p:blipFill>
          <a:blip r:embed="rId5"/>
          <a:stretch/>
        </p:blipFill>
        <p:spPr>
          <a:xfrm>
            <a:off x="3200400" y="2133720"/>
            <a:ext cx="23241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315200" cy="1447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That’s Right!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Freedom of Religion</a:t>
            </a:r>
            <a:endParaRPr b="0" lang="en-US" sz="4800" spc="-1" strike="noStrike">
              <a:solidFill>
                <a:srgbClr val="ff8000"/>
              </a:solidFill>
              <a:latin typeface="Tahom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438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438280" y="190512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bf60"/>
                </a:solidFill>
                <a:latin typeface="Chalkboard Bold"/>
              </a:rPr>
              <a:t>What do each of these pictures demonstrate?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Picture 6"/>
          <p:cNvPicPr/>
          <p:nvPr/>
        </p:nvPicPr>
        <p:blipFill>
          <a:blip r:embed="rId1"/>
          <a:stretch/>
        </p:blipFill>
        <p:spPr>
          <a:xfrm>
            <a:off x="2286000" y="3048120"/>
            <a:ext cx="5180040" cy="3276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civil disobedience"/>
          <p:cNvPicPr/>
          <p:nvPr/>
        </p:nvPicPr>
        <p:blipFill>
          <a:blip r:embed="rId2"/>
          <a:stretch/>
        </p:blipFill>
        <p:spPr>
          <a:xfrm>
            <a:off x="304920" y="304920"/>
            <a:ext cx="2819160" cy="2361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civil disobedience 2"/>
          <p:cNvPicPr/>
          <p:nvPr/>
        </p:nvPicPr>
        <p:blipFill>
          <a:blip r:embed="rId3"/>
          <a:stretch/>
        </p:blipFill>
        <p:spPr>
          <a:xfrm>
            <a:off x="6553080" y="380880"/>
            <a:ext cx="2210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7:56:58Z</dcterms:created>
  <dc:creator>Mary Lynn Coyne</dc:creator>
  <dc:description/>
  <dc:language>en-US</dc:language>
  <cp:lastModifiedBy>Brittany  Arnold</cp:lastModifiedBy>
  <dcterms:modified xsi:type="dcterms:W3CDTF">2012-04-18T16:16:46Z</dcterms:modified>
  <cp:revision>21</cp:revision>
  <dc:subject/>
  <dc:title>PowerPoint Presentation</dc:title>
</cp:coreProperties>
</file>